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050-4A57-49A4-9FB9-E4B63CFF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DD2-B046-453B-899F-5BCF6811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7AF8F-4743-4A0C-8CAF-5A74961D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C3DEF-1742-4943-BACA-A497A71E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32DBB-E882-46CE-BB1F-B4679242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9C8CF-D813-4565-A729-4335CA08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ED9C2-19AD-4270-B344-D5E80D4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37C62-1678-40E2-B68D-482D177C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82200-539B-41A5-9A3E-358952EA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74D23-1AD8-4831-86E5-15C5FABF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B68E7-20B5-4261-9758-7BFCC957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F92-6783-4BC2-A3F3-4BB51B64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0B1-4D29-401F-93AC-59CB0F98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AC5E-20B3-431A-987F-57C9E6A2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5EEC-617E-4DD1-93A6-C3945D83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F406-7CE4-4AC0-BF07-E6429644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1BC3-CB1D-4C6E-B53F-C586B53D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D429-CA7F-4EE3-99A1-8C4E74AB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9122-14DE-45BB-A206-7DEC6CA0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A955-34DE-46AB-BE0B-8958813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8BD-7267-4ECE-8723-D28BF946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A7F4-154C-4E3A-84C7-321D2AA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83C3-38FF-4776-A7A3-85002D7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104-8DF0-4921-B3ED-B43BED1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62E9-8824-4753-A831-1BD072B5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CD23-C94F-4F4F-A6D3-07690D0B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36D6-6EA8-4B5E-8C32-38AD87FC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FF8B-EA24-4A1B-B1E6-D173EC6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EE1C-5EB8-4FFF-BB0F-C5942DAA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D177-8872-4D2F-8132-A2E903B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0132-31A5-49E5-96FC-E9F6007B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635-F867-499F-A067-CF78AA79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6B94-D54B-4538-9C39-17433E49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11C1-32B3-4A96-8343-5FC7DBBF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9E1F-5257-47A2-8DA7-C4CB8D9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1245-5690-40C1-A30F-4D291F0D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ADFC-F3D2-4937-A810-95E677E3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60D1-6337-4B26-8FB1-AC3C9E30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59B1-EA11-4694-A9DA-AA54DA05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B2F9-BAA1-4929-ABE9-2312C66A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C703-E46C-4BA2-876F-F6097342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55CC-5898-46DD-92D3-DE12E2DF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E7B-02C4-476D-9AF5-F518B37B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21B25-1766-4E76-A9DB-2BA30432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98525-5CBB-4E6F-B5E3-1067F425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449F-CBE5-4869-90DC-7D3815AC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E0D84-7A72-4FF0-BC4E-2AB2CC23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AFAA9-F661-4288-B795-BF42095E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E438-F4B2-4BAA-8BEA-D9B4A73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50D33-C379-4169-892A-181D90B0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4629C-2CD4-4F42-B2AF-0A0578E3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F367-D8FC-4ECF-87E0-CAC3190F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27B8B-A64E-46A5-9A2B-001E31E6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D08-971F-46AA-95F6-FA610F19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0F926-F311-4ABA-BE5C-1820E075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319F0-1890-4637-A28C-99ED2FD0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83DB-D2D8-4EC9-9643-AB9FA56F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10EC6-22E0-41B7-B7DC-62351503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CAC57-FBC3-48EB-AA29-C3D5B4BF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03D69-B60D-4BBD-B283-649CDC3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5973-59D7-49CC-BF33-8C28A240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A3AA9-95D1-4FA1-8E9B-EAEF633B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662D6-509F-46AE-9C8D-70AF2A9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CE168-B9A9-4FCF-86BA-796149C7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0DE-192C-4DEC-82CE-8D8E7F7A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05A51-70E6-4CBD-ABAB-2CB518EC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EF6B-7B55-47C1-AB64-F3C3CCE8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B5213-246F-4026-851A-E7C4D5BD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5C6A-8A6F-4863-AD48-92899B9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39AD4-39D5-40D5-B7F0-39112FD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19F4A-205F-44ED-A383-50914E05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04D76-8687-4313-A2F6-A395F419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A6ECA-8283-4B02-AD01-52A464D0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3E0C2-2812-495F-AFC1-B24EF39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42783-16B9-41F0-A51C-97AEE10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845-6798-4B47-8FBB-72E8A1D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E367-1E87-4A7F-BD44-1ADE364C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42E6F-3DEF-44E8-BBF8-97902889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8F597-8B74-4E27-BE94-010DD3EF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EE04-9735-451A-B372-E0E04EDB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3F02-5104-4999-B133-CE44F809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60DB3-75E1-4967-A9E6-5AC76B43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36F49-90D6-4062-944D-5690AB62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6AE2F-6977-44E4-8693-15CDA4C3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EACAB-862B-40E5-8245-83FDB6C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7E0CA-DA09-48F0-AA75-D339B71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AED-8AD6-490F-BDF0-86E9520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A70F0-CCD6-4762-9004-3C6B8068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2E4A4-E147-4840-B021-2EA5A4A6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A1AED-4779-4625-9BC2-E4471F51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36644-6BA1-406D-97DA-9850E1A7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A7B7C-E266-4983-A195-6942585A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E038-86B1-40DA-BBB8-FECAE95F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2C01D-6C66-46A2-BABE-9DEF408F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048CF-0114-4A4F-A029-A8639D5E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4D06-5281-4EBC-90A3-DB1C3336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0B85C-A7E3-4012-A6CA-61B9E97A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3AD-2022-4075-9370-D496744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E486A-BE3A-4A74-B340-5955DBC1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4136F-4633-4469-AC5E-3359F5FA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BBBA4-12E5-4523-88D6-EC534FD8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0E48F-505E-4144-AB8B-C52BB98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F3144-964A-4383-8895-083396B4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E1D3-E3C5-48C0-A3EE-9EAFB0F0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90845-8280-47DC-AB72-79AE022E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9CCBA-18A8-4E00-822B-FAB89370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9F616-F726-4CD5-88C8-2C8CDA10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37549-A331-4842-8BA7-901510B0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D233-4D91-4698-96FF-D11195676A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3218-B172-4D9B-8797-3DFFAC8C75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4A48-1513-4086-BE92-C54A1BE9690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B8F7-2FB3-4FAB-9478-655C317678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14EC-9B23-4035-9821-8BAB12DF95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DC7C-5CAF-4C0E-963B-093DFDCD2E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FBD-8227-4D35-8A81-203371CED1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0169-5845-4EB6-B854-3AC9BF5405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573B-9018-4C53-9B68-801EF67EED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03360" y="79200"/>
            <a:ext cx="7791480" cy="2462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13372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Подготовила: Т.И. Ковале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педагог-психолог МБОУ гимназия №7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г. Крымск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4" descr="fft99_mf1343149"/>
          <p:cNvPicPr/>
          <p:nvPr/>
        </p:nvPicPr>
        <p:blipFill>
          <a:blip r:embed="rId2"/>
          <a:stretch/>
        </p:blipFill>
        <p:spPr>
          <a:xfrm>
            <a:off x="1676520" y="2286000"/>
            <a:ext cx="51814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"/>
          <p:cNvSpPr/>
          <p:nvPr/>
        </p:nvSpPr>
        <p:spPr>
          <a:xfrm flipV="1" rot="10800000">
            <a:off x="533160" y="-34200"/>
            <a:ext cx="8381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Коррекционное занятие включает в себя  основные эта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нсорная интеграция, ритмическая деятельность, обр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вспомогательные этапы работа с тонусом, развитие глаз-рука, пространственное восприят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228600" y="218520"/>
            <a:ext cx="8686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нсорная интег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ирование у ребенка представление о се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азвитие произволь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азвитие пространственных представл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ирование и коррекция восприятия схемы 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762120" y="316800"/>
            <a:ext cx="7772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Основные принци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ора на зону ближайшего развит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мотивации ребенка, уважение его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особенностей моторики, сенсор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 способа мышления, коммуникативных спосо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685800" y="389880"/>
            <a:ext cx="7772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нятие строится по плану, который включает в себ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точнение общей мотор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становление конта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ределение актуального состояния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дбор дидактических заданий на основе интереса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0" name="Picture 4" descr="https://psypedprofi.ru/wp-content/uploads/2021/01/2021-01-04_12-06-37.png"/>
          <p:cNvPicPr/>
          <p:nvPr/>
        </p:nvPicPr>
        <p:blipFill>
          <a:blip r:embed="rId1"/>
          <a:stretch/>
        </p:blipFill>
        <p:spPr>
          <a:xfrm>
            <a:off x="4648320" y="3352680"/>
            <a:ext cx="4038480" cy="2837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3"/>
          <p:cNvSpPr/>
          <p:nvPr/>
        </p:nvSpPr>
        <p:spPr>
          <a:xfrm>
            <a:off x="1066680" y="45720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сихологическая работа должна проходить в тесном сотрудничестве с 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род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2" descr="https://spec-school.crm.eduru.ru/media/2020/01/28/1250355437/hello_html_1a4328b.png"/>
          <p:cNvPicPr/>
          <p:nvPr/>
        </p:nvPicPr>
        <p:blipFill>
          <a:blip r:embed="rId1"/>
          <a:stretch/>
        </p:blipFill>
        <p:spPr>
          <a:xfrm>
            <a:off x="609480" y="1951200"/>
            <a:ext cx="830592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-360" y="914040"/>
            <a:ext cx="8991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Arial"/>
                <a:ea typeface="Arial"/>
              </a:rPr>
              <a:t>СПАСИБО                    ЗА ВНИМАНИЕ !!!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Главная сложность -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аключается в отсутствии собственной мотивации к развитию и обучению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возможность установления «общего языка» между специалистом и ребенк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5" descr="https://avatars.mds.yandex.net/i?id=fdb1279dd8ac7f4bd5e24c03c38c0d91c9f1c090-5584275-images-thumbs&amp;n=13"/>
          <p:cNvPicPr/>
          <p:nvPr/>
        </p:nvPicPr>
        <p:blipFill>
          <a:blip r:embed="rId1"/>
          <a:stretch/>
        </p:blipFill>
        <p:spPr>
          <a:xfrm>
            <a:off x="3733920" y="2416320"/>
            <a:ext cx="50482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0" y="238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иада РАС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ереотип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фические нарушения реч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коммуник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Picture 9" descr="C:\Users\admin\Desktop\триада.bmp"/>
          <p:cNvPicPr/>
          <p:nvPr/>
        </p:nvPicPr>
        <p:blipFill>
          <a:blip r:embed="rId1"/>
          <a:stretch/>
        </p:blipFill>
        <p:spPr>
          <a:xfrm>
            <a:off x="2057400" y="2514600"/>
            <a:ext cx="4915080" cy="3774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4"/>
          <p:cNvSpPr/>
          <p:nvPr/>
        </p:nvSpPr>
        <p:spPr>
          <a:xfrm>
            <a:off x="762120" y="3808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Используем исходную мотивацию как инструмент для его обучения. Начинаем с того что ему сейчас интересно, а потом постепенно расширяем взаимодейств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5" descr="https://micolock.ru/wp-content/uploads/9/8/d/98d823ae13c39776541c50a9ee9a747c.jpeg"/>
          <p:cNvPicPr/>
          <p:nvPr/>
        </p:nvPicPr>
        <p:blipFill>
          <a:blip r:embed="rId1"/>
          <a:stretch/>
        </p:blipFill>
        <p:spPr>
          <a:xfrm>
            <a:off x="3962520" y="3200400"/>
            <a:ext cx="4647960" cy="3098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4-1"/>
          <p:cNvPicPr/>
          <p:nvPr/>
        </p:nvPicPr>
        <p:blipFill>
          <a:blip r:embed="rId1"/>
          <a:stretch/>
        </p:blipFill>
        <p:spPr>
          <a:xfrm>
            <a:off x="1752480" y="2362320"/>
            <a:ext cx="5334120" cy="32004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4"/>
          <p:cNvSpPr/>
          <p:nvPr/>
        </p:nvSpPr>
        <p:spPr>
          <a:xfrm>
            <a:off x="8380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Коррекционная работа основывается на компенсации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дифицитарных сфер развития с опорой на сохранные сф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4"/>
          <p:cNvSpPr/>
          <p:nvPr/>
        </p:nvSpPr>
        <p:spPr>
          <a:xfrm>
            <a:off x="685800" y="152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ризнаки тактильной дисфункций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синсетивность и гипосенситивн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Picture 5" descr="https://fb.ru/misc/i/gallery/53302/3007019.jpg"/>
          <p:cNvPicPr/>
          <p:nvPr/>
        </p:nvPicPr>
        <p:blipFill>
          <a:blip r:embed="rId1"/>
          <a:stretch/>
        </p:blipFill>
        <p:spPr>
          <a:xfrm>
            <a:off x="167652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5" descr="https://fb.ru/misc/i/gallery/53302/3007019.jpg"/>
          <p:cNvPicPr/>
          <p:nvPr/>
        </p:nvPicPr>
        <p:blipFill>
          <a:blip r:embed="rId1"/>
          <a:stretch/>
        </p:blipFill>
        <p:spPr>
          <a:xfrm>
            <a:off x="4038480" y="28195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"/>
          <p:cNvSpPr/>
          <p:nvPr/>
        </p:nvSpPr>
        <p:spPr>
          <a:xfrm>
            <a:off x="609480" y="60588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нарушении работы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Times New Roman"/>
              </a:rPr>
              <a:t>вистибуляр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при гиперчувствительности ребенок будет избегать площадок, горок, лестниц и т.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гипочувствительности ребенок стремится докомпенсировать, то есть не сидеть на месте, прыгать, экстремально спускатьс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https://myslide.ru/documents_7/e7796fe0f5648564fc1bc4702e834c4b/img8.jpg"/>
          <p:cNvPicPr/>
          <p:nvPr/>
        </p:nvPicPr>
        <p:blipFill>
          <a:blip r:embed="rId1"/>
          <a:stretch/>
        </p:blipFill>
        <p:spPr>
          <a:xfrm>
            <a:off x="-127080" y="0"/>
            <a:ext cx="927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https://mediaex.ru/wp-content/uploads/f/2/5/f25536810cbf8cdcaaa47e36186bac79.jpeg"/>
          <p:cNvPicPr/>
          <p:nvPr/>
        </p:nvPicPr>
        <p:blipFill>
          <a:blip r:embed="rId1"/>
          <a:stretch/>
        </p:blipFill>
        <p:spPr>
          <a:xfrm>
            <a:off x="685800" y="380880"/>
            <a:ext cx="8077320" cy="6327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cp:lastPrinted>2016-05-30T08:54:26Z</cp:lastPrinted>
  <dcterms:modified xsi:type="dcterms:W3CDTF">2023-05-29T09:04:5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